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65A-FF33-43B3-92D0-B1C384C0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F06-0F12-44B4-8831-735C87D3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A99-92F6-4E1D-B15F-A4334E31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5E6-3652-401E-8E27-ED770BD7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20C-41AB-4240-8FE3-03A9610D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E61-87A3-448F-A605-7B9A947B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FFA-F595-4A59-9E34-9CE3017C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659-64FB-417E-8839-BE514C28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981-8261-48D5-BAE7-886A0CD1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163-EBB8-415D-83AA-A8194C47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490-91A1-4197-8884-27009D7D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19B-7321-4341-BC46-63E8C26D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D4CC-8C0E-4056-A273-9AA3726AF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 CP/GHP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2 Identifying Minerals (slide 1)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and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ow a mineral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how it reflects light from surfa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lic (looks like gold, silver, copp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lic (dull, glassy, pearly, waxy, silk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x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feel (smooth, rough, greas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ea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owder left on a porcelain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2 Identifying Minerals (slid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d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w easily it can be scratch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Moh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heets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 Fractu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rc like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 mineral brea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a cleaves in perfect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easure of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a mineral that is useful and mined for a profi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al, iron, salt, aluminum, titan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rare and beautifu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amonds, emeralds, rub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ce 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fect the color and valu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lky, amethyst, rose, &amp; smoky quart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What is a miner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urally occu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g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xed chemical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ystal lat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liquid or a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e shapes and 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= wa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= steam (evaporation/sublimation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= 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ly Occurring &amp; 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naturally, not man-ma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snowflakes, human teeth, amethy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ive and never wa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ble sa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mineral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g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mineral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meralds minerals but not pear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xed chemical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ineral has a composition unique to that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and sulfur are singl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(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is composed of 1 atom of silicon and 2 atoms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stal lat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crystallize in regular geometric patterns that are repeated again and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major shapes of crysta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 they come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Mag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er moving = larger crysta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moving = smaller crys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olu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evaporates = crysta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ndwater, cave water, surface water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ill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 Groups (slide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lic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ntain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ne or mo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6% of Earth’s cru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=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dspar = KAlS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vine = M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ntain Oxygen &amp; a me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atite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tite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 groups (slide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lf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bine with sulfu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ite Fe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ates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have Cl or F + Ca, Na, 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l = h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bon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ave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te (Ca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and dolomite are minera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estone, coquina &amp; marble are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old (Au), silver (Ag), copper (C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45:32Z</dcterms:created>
  <dc:creator>staff</dc:creator>
  <dc:description/>
  <dc:language>en-US</dc:language>
  <cp:lastModifiedBy>staff</cp:lastModifiedBy>
  <dcterms:modified xsi:type="dcterms:W3CDTF">2007-11-30T15:54:36Z</dcterms:modified>
  <cp:revision>9</cp:revision>
  <dc:subject/>
  <dc:title>Minerals</dc:title>
</cp:coreProperties>
</file>